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120-A6D2-4129-ADA9-81305DF3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BFB-FD93-400D-B926-F8644399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C2F-3775-4183-91C5-3394952C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7A9-FCD5-4B46-B5CA-484F79AD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339-09D4-4BA1-8FA5-D33ECCD4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3F3-1177-4CC7-A7F9-E1BD5FB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1026-1509-4DAE-B7A6-8B6DE5D2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F94-EB54-45ED-A367-58DBAD2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818F-99DC-4937-8E72-EBB15E6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47E-E835-4E60-824E-9DE1972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0E0-0AF1-4DED-8BEB-CCBD3D05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86B-0D78-4D45-BA68-12AD61C5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2EFB-1C25-450D-9345-AA67555C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C0C9-4D4B-4628-95E9-C3AE154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09E-C014-42F6-AC75-D55839EA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E488-736B-455A-96A4-87C1213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17E5-8BED-47F9-88F7-EDFF78D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DA84-BA6F-4709-AD81-99620792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0D5E-A4AC-4448-9D2C-AA08CF15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C2DE5-6B01-4BB9-B644-ECF1CF70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257-D9CB-453B-B172-D07DB450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B0F6-37F0-4116-B981-E3F0748C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772F-DF1E-445B-BD63-D4335424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E3AD-9B7D-413C-AF3C-FBC0E94C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5808-5FC3-4CAE-9D51-55DECC39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6AF4-5957-4C2F-B862-C958E5E2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162F-5835-4BB7-AF5F-710E5F5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DB9D-0587-4DD6-9C69-610F946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630F-492B-46A4-86D5-1952E8E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749C-C2EB-4836-9FB2-E9CA332C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E89A9-ED88-4F91-8B04-A3630619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534-DA9E-46F3-A915-811D209A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FE0D-1B38-4F65-AF06-9BE06EB5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BC8-AD80-4BB2-BBE1-F7FFE0C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81F-6445-44EA-B93C-B25890B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A96-3A55-4036-BCDD-494CCB2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0A30-FAB2-4FF8-8F27-2D5F9E983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747-7DE2-43F9-B6E2-4D8F8C69B4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1DCD-FCC9-405B-816A-CC1FB1CDA9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ru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uthie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bout Ruthie Bolt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he was born January 6, 1961 Hungry Neck, a section in Charleston, South Carolin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Her mother died in a fire accident by a dope sell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Her grandmother died because of abus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3:32:19Z</dcterms:created>
  <dc:creator>tchs</dc:creator>
  <dc:description/>
  <dc:language>en-US</dc:language>
  <cp:lastModifiedBy>tchs</cp:lastModifiedBy>
  <dcterms:modified xsi:type="dcterms:W3CDTF">2007-04-06T13:39:47Z</dcterms:modified>
  <cp:revision>2</cp:revision>
  <dc:subject/>
  <dc:title>Gal  a true life</dc:title>
</cp:coreProperties>
</file>